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9234-3978-419E-A022-4CE1E520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C575-535C-4C5E-84FD-C49177DC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016-8585-4AE3-85C0-B043ED7C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50E6-41F1-4F5D-928D-C39F5519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E44-6917-483E-ACDB-EBE4BD80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77A2-D466-4E4B-B333-D217F5F0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B13-FD9A-4CF8-8DCA-2BF12B98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3DD3-12B9-42A7-8232-419E9132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2ABA-4584-4277-B79A-9A5B0401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9E6-9844-4620-9F1B-D4ACFE07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7EA-44BB-4C55-A977-F0E2B70E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6614-D6AA-427F-8B16-8F4EAC11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6B8F-6DF7-46F3-A7B7-1DEB5514D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05120" y="4191120"/>
            <a:ext cx="2361960" cy="2666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15000" y="3657600"/>
            <a:ext cx="1447920" cy="3200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228600"/>
            <a:ext cx="807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iends my name is Suruchi. I wish to tell you an interesting day of my life. That day I was walking on road and found a mobile lying on road. I picked it up and looked for the owner. First I thought to keep it with me but later I thought it was wr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743200"/>
            <a:ext cx="2133720" cy="1523880"/>
          </a:xfrm>
          <a:prstGeom prst="cloudCallout">
            <a:avLst>
              <a:gd name="adj1" fmla="val 67634"/>
              <a:gd name="adj2" fmla="val 44166"/>
            </a:avLst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’s wrong in keeping it with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72400" y="4572000"/>
            <a:ext cx="158580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315200" y="3938760"/>
            <a:ext cx="1143000" cy="291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238880" y="1600200"/>
            <a:ext cx="1905120" cy="1219320"/>
          </a:xfrm>
          <a:prstGeom prst="wedgeEllipseCallout">
            <a:avLst>
              <a:gd name="adj1" fmla="val 13249"/>
              <a:gd name="adj2" fmla="val 223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ss is this your cell ph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1447920"/>
            <a:ext cx="3048120" cy="1752480"/>
          </a:xfrm>
          <a:prstGeom prst="wedgeEllipseCallout">
            <a:avLst>
              <a:gd name="adj1" fmla="val 82500"/>
              <a:gd name="adj2" fmla="val 11114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h yes, where did you find it? Thank you so much. Without it I am helpl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86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3049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my conscience told me to return it to its owner. I saw a lady passing that way and asked her about it. She at once recognised it as her cell phone. She was grateful to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553080" y="3962520"/>
            <a:ext cx="1189080" cy="289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010280" y="4876920"/>
            <a:ext cx="2133720" cy="1981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280" y="228600"/>
            <a:ext cx="8763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209680"/>
            <a:ext cx="3276720" cy="990720"/>
          </a:xfrm>
          <a:prstGeom prst="wedgeEllipseCallout">
            <a:avLst>
              <a:gd name="adj1" fmla="val 12064"/>
              <a:gd name="adj2" fmla="val 14903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 are a nice girl. Where do you l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43800" y="3352680"/>
            <a:ext cx="1600200" cy="838440"/>
          </a:xfrm>
          <a:prstGeom prst="wedgeEllipseCallout">
            <a:avLst>
              <a:gd name="adj1" fmla="val -22819"/>
              <a:gd name="adj2" fmla="val 177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live in Dad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28600"/>
            <a:ext cx="891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049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80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at day was a test of my integrity and I passed. Since then that lady became my well wisher and always sends gifts for me. A good deed brought about a great change in my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791320" y="4800600"/>
            <a:ext cx="1066680" cy="2057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62120" y="3938760"/>
            <a:ext cx="1676160" cy="2919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819520" y="4495680"/>
            <a:ext cx="137160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enever we do good we feel good and others praise us too. I got praise from my Principal Sir, teachers as well as fellow stud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2133720"/>
            <a:ext cx="3200400" cy="1752480"/>
          </a:xfrm>
          <a:prstGeom prst="wedgeEllipseCallout">
            <a:avLst>
              <a:gd name="adj1" fmla="val -17805"/>
              <a:gd name="adj2" fmla="val 112046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am proud of Suruchi. She is honest girl. She can be given responsi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3352680"/>
            <a:ext cx="2286000" cy="1447920"/>
          </a:xfrm>
          <a:prstGeom prst="wedgeEllipseCallout">
            <a:avLst>
              <a:gd name="adj1" fmla="val -66805"/>
              <a:gd name="adj2" fmla="val 9824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r you are right. I made her monitor of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2209680"/>
            <a:ext cx="2286000" cy="2362320"/>
          </a:xfrm>
          <a:prstGeom prst="cloudCallout">
            <a:avLst>
              <a:gd name="adj1" fmla="val -50625"/>
              <a:gd name="adj2" fmla="val 5705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all praise Suruchi. I am proud to be her fri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09:04Z</dcterms:created>
  <dc:creator>student</dc:creator>
  <dc:description/>
  <dc:language>en-US</dc:language>
  <cp:lastModifiedBy>abc</cp:lastModifiedBy>
  <dcterms:modified xsi:type="dcterms:W3CDTF">2010-10-19T15:14:29Z</dcterms:modified>
  <cp:revision>2</cp:revision>
  <dc:subject/>
  <dc:title>A good deed</dc:title>
</cp:coreProperties>
</file>